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51082-778D-4FAC-A8A1-C395693ED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hyperlink" Target="http://www.sdnhm.org/exhibits/dogs/facts.html" TargetMode="External"/><Relationship Id="rId2" Type="http://schemas.openxmlformats.org/officeDocument/2006/relationships/hyperlink" Target="http://www.sdnhm.org/exhibits/dogs/facts.html" TargetMode="External"/><Relationship Id="rId3" Type="http://schemas.openxmlformats.org/officeDocument/2006/relationships/hyperlink" Target="http://www.sdnhm.org/exhibits/dogs/facts.html" TargetMode="External"/><Relationship Id="rId4" Type="http://schemas.openxmlformats.org/officeDocument/2006/relationships/slide" Target="../slides/slide13.xml"/><Relationship Id="rId5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hyperlink" Target="http://sanat.bilkent.edu.tr/imot/neolithic/RMO52-27.html" TargetMode="External"/><Relationship Id="rId2" Type="http://schemas.openxmlformats.org/officeDocument/2006/relationships/hyperlink" Target="http://sanat.bilkent.edu.tr/imot/neolithic/RMO52-27.html" TargetMode="External"/><Relationship Id="rId3" Type="http://schemas.openxmlformats.org/officeDocument/2006/relationships/slide" Target="../slides/slide16.xml"/><Relationship Id="rId4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hyperlink" Target="http://www.bobmay.info/may132003jericho.htm" TargetMode="External"/><Relationship Id="rId2" Type="http://schemas.openxmlformats.org/officeDocument/2006/relationships/hyperlink" Target="http://www.bobmay.info/may132003jericho.htm" TargetMode="External"/><Relationship Id="rId3" Type="http://schemas.openxmlformats.org/officeDocument/2006/relationships/slide" Target="../slides/slide22.xml"/><Relationship Id="rId4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bbc.co.uk/science/cavemen/chronology/contentpage1.shtml" TargetMode="External"/><Relationship Id="rId2" Type="http://schemas.openxmlformats.org/officeDocument/2006/relationships/hyperlink" Target="http://www.bbc.co.uk/science/cavemen/chronology/contentpage1.shtml" TargetMode="External"/><Relationship Id="rId3" Type="http://schemas.openxmlformats.org/officeDocument/2006/relationships/slide" Target="../slides/slide6.xml"/><Relationship Id="rId4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fian burial w/dog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sdnhm.org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/exhibits/ dogs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facts.htm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anat.bilkent.edu.tr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/ imot/neolithic/RMO52-27.htm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 of jericho walls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bobmay.info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/ may132003jericho.ht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eleton of Lucy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bbc.co.uk/.../ chronology/contentpage1.shtm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construction of Lucy: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bbc.co.uk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/.../ chronology/contentpage1.shtm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3EA7-44CF-4B7D-B2EB-42B48F642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9C4B-5383-40C6-A1FF-B51A879C6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2036-F4A4-4ADD-99C7-BFD4AF129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D024-8B6F-48B9-AE21-36367A30F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2E3AF-F7B3-4D35-81F8-D7386F06D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617AB-74D3-4AC6-8720-3DA0B0F67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CE461-5ACA-46E2-BA71-8BDF37BF0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D0303-0653-4B69-8129-6C9A30B1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29433-5A2E-48C7-AEE7-9C616056D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0F20C-A134-4771-8908-84353A46D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C16FC-EA59-4554-8399-93D4D8AF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E763-3AD8-4B4C-A430-520DDF593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A7948-A21C-43C1-AAF0-D7B54BE7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486F2-7613-4EDF-A8BA-40A71177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279FE-021D-4112-BE36-18EED65D2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A8485-89BF-4D69-8DD7-17047E2B2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AB3A3-A0ED-42DE-9D4C-BB6290652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BA55-7070-4F4B-BC6A-5B893CE14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8CF2-3500-4A8A-A233-40B245296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AC08-37EE-4E51-872E-BFE28E3BF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5DC9-9A26-485B-9EB0-35C9E1032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2A4C-7976-43B0-8090-D9BB624B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F3BF-CCE2-47A3-A090-17021789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AAB7-6115-4FC2-A918-FC99D546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CC120-2F61-4DE0-A09F-CD33BA0E8DB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815480" y="6628320"/>
            <a:ext cx="5349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06 The McGraw-Hill Companies Inc. Permission Required for Reproduction or Display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8E152-A392-409A-99EB-138CE882D47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15480" y="6628320"/>
            <a:ext cx="5349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06 The McGraw-Hill Companies Inc. Permission Required for Reproduction or Display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ff9900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Point Presentation Materi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Instructor’s Online Learning Ce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ditions and Encount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Global Perspective on the Past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17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rd</a:t>
            </a:r>
            <a:r>
              <a:rPr b="0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ditio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rry H. Bentley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rbert F. Ziegl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Point Presentations Prepared by Henry Abramso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11066" t="-10309" r="61339" b="0"/>
          <a:stretch/>
        </p:blipFill>
        <p:spPr>
          <a:xfrm>
            <a:off x="4419720" y="4876920"/>
            <a:ext cx="474480" cy="50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7AC1-F80F-4A19-AA83-848217901F0F}" type="slidenum">
              <a:t>1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leolithic Era (“Old Stone Age”)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idence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chaeological find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rapolation from modern hunter-gatherer societ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madic existence precludes advanced civiliz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ups of 30-5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vision of labor along gender l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8185-D382-4A51-BEC0-C5CF0000CEAA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Relative Social Equality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madic culture precludes accumulation of land-based wealt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likely determinants of status: age, hunting skill, fertility, charism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sible gender equality related to food produc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: protein from hunt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men: plant gether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D7F6-EBC6-4BA2-AD4E-5102B317946E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Big Game Hunting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idence of intelligent coordination of hunting expedi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ment of weaponr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imal-skin disguis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mpeding tactic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ghting of fires, etc. to drive game into kill zon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s planning, communic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0BB5-331B-4C97-9810-F61E448B73B4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leolithic Settlements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fian socie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rn Israel and Jord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d wheat, her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mon socie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p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d buckwheat, fish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nook socie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cific Northw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ries, acorns, salmon ru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ups of 1000 or mo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289A-6B58-4F8F-B0CC-13AD80C3C38C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andertal Peoples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ander valley, western German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found in Africa, east Asi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idence of spirituality: ritual buri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4C0B-02DE-4FFD-9CBF-44B6FC94C039}" type="slidenum">
              <a:t>14</a:t>
            </a:fld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o-magnon Peoples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ysically similar to modern huma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eater capacity for speech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mo sapiens sapie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d variety of too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ornments, decorative furniture, cave painting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nus” figurin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ve painting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53CD-5E5E-499A-8CA0-CA0C614D749A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olithic Era (“New Stone Age”)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inction in tool produc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pped vs. polished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: herding animals rather than hunting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men: nurtured vegetation rather than forag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ead of Agriculture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ash-and-and burn techniqu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haustion of soil promotes migr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 of crops from one region to anoth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3CA0-B168-4F5B-BAA7-D8AC36611DA0}" type="slidenum">
              <a:t>16</a:t>
            </a:fld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Origins of early spread of agriculture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4038480" cy="4086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572000" y="1600200"/>
            <a:ext cx="4038480" cy="4092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19D2-2B1B-4439-87CC-E32F765C5FFF}" type="slidenum">
              <a:t>17</a:t>
            </a:fld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griculture and Population Growth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63680" y="1600200"/>
          <a:ext cx="821520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600200"/>
                    <a:ext cx="821520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CFD3-455E-4178-9032-A7FBC413D67D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rplus Food and 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pecialization of Labor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ergence of villages and tow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overies at Çatal Hüyük, Turkey, occupied 7250-5400 B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emendous range of manufactured produc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ttery, Jewelry, Textiles, Copper too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ment of craf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793B-FEF9-495A-A20A-AB117C27F402}" type="slidenum">
              <a:t>19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pter 1</a:t>
            </a:r>
            <a:endParaRPr b="0" lang="en-US" sz="5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fore Histor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260280" y="0"/>
            <a:ext cx="966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B6129-9E81-48F1-B7D3-3499AB065719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Social Distinctions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umulation of landed wealth initiates development of social class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chaeological evidence in variety of household decorations, goods buried with deceased members of society at Çatal Hüyü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307D-2020-4036-9D6F-854E5AB53277}" type="slidenum">
              <a:t>20</a:t>
            </a:fld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Religious Values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ements of natural environment essential for function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chaeological evidence of religious worship: thousands of clay figurines, drawings on pots, tool decorations, other ritual objec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rtility: Venus figur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0E95-E6C6-4402-A8FF-8582F3C7BCBF}" type="slidenum">
              <a:t>21</a:t>
            </a:fld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ginnings of Urbanization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richo: concentration of wealth, building a wal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aft specializ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ial stratific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vernan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ltural work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EB43-4872-47FA-927F-A7394ECE6E41}" type="slidenum">
              <a:t>22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ing the Complex Society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ic development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unting and Forag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gricult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x Socie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y issue: surplus capit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jor development of first complex societies 3500 BCE – 500 B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880B-C3C9-4CC2-B1FA-7B82ABF35201}" type="slidenum">
              <a:t>3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history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“history”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cument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ten record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chaeological discover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site human presence (or “natural” history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0700-C85F-4678-AAB9-CBF3285B9F49}" type="slidenum">
              <a:t>4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ment of Hominids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imals adapt themselves to environm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minids adapt environment to themselv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of too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guag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x cooperative social structur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0A0F-70F0-4BAA-820A-3931A50D57FF}" type="slidenum">
              <a:t>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tralopithecus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overy of skeleton AL-288-1, north of Addis Ababa, Ethiopi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icknamed “Lucy”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% of SWF, 4’6”, 55lb., bipedal Brain 500 cc (modern human: 1400 cc), limited speech but opposable digi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imated date of death: 3.5 million years ag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66D0-3E55-481B-954F-B692913B69B6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ter Hominids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mo Erectus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“upright man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r brain capacity (1000 cc), improved tool use, control of fi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mo Sapiens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“wise man” </a:t>
            </a:r>
            <a:r>
              <a:rPr b="0" i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mo Sapiens Sapiens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“very wise man” (most of u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brain, esp. frontal reg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sophisticated tools and social organiz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grations of </a:t>
            </a:r>
            <a:r>
              <a:rPr b="0" i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mo Erectus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mo Sapie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2324-74BA-4FCF-A4ED-C3E275540848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Global spread of hominids and </a:t>
            </a:r>
            <a:r>
              <a:rPr b="0" i="1" lang="en-US" sz="3000" spc="-1" strike="noStrike">
                <a:solidFill>
                  <a:srgbClr val="ffffff"/>
                </a:solidFill>
                <a:latin typeface="Garamond"/>
              </a:rPr>
              <a:t>Homo Sapiens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4038480" cy="40863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572000" y="1600200"/>
            <a:ext cx="4038480" cy="4092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C5DE-6E45-4788-A500-65C0706AF591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The Natural Environment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 13,000 BCE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mo sapiens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 every inhabitable part of the worl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chaeological find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phisticated too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ppers, scrapers, axes, knives, bows, arrow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ve and hutlike dwelling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of fire, animal ski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unted several mammal species to extinc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mactic change may have accelerated proc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DC82-6A9F-4046-B0E2-24F0B3B6155F}" type="slidenum">
              <a:t>9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7T17:06:25Z</dcterms:created>
  <dc:creator>HABRAMSO</dc:creator>
  <dc:description/>
  <dc:language>en-US</dc:language>
  <cp:lastModifiedBy>ripkensa</cp:lastModifiedBy>
  <dcterms:modified xsi:type="dcterms:W3CDTF">2009-11-30T12:01:53Z</dcterms:modified>
  <cp:revision>33</cp:revision>
  <dc:subject/>
  <dc:title>Slide 1</dc:title>
</cp:coreProperties>
</file>